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8A6212-F2A4-4782-AA31-9092B36623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03FBDF-C57D-47E3-B793-B6F7496FF9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962011-45EF-4F26-9F3F-C313562EF8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0BECF8-0894-49FC-9611-98D7F6FF83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C4D2E3-2E2A-4696-8F66-68FE4E740C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98397F-1BB0-4B22-A44A-42CFCA8F70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5D0641-805D-4327-9C1C-CFB8E4D15C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AD451D-05F4-4878-A689-206534589C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D797E3-8461-4EF4-83C8-733756A70B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183356-FDDB-4C89-9776-2DEC034CE4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6CC6B4-BA8E-4D69-AEC2-EEA6D4E673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1DE2B7-700C-45F6-9E40-EA5442BFC2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B85FC3-4406-4F0C-922C-B5172ABAF6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5F2090-19EC-4A94-9B76-338A49E804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392D15-D561-45CD-A12B-B45F4338C4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ECCF80-7C9E-4881-BAA4-B7E20DC29B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BD4F62-ABDE-4091-BA8A-FBBBF3A56B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461807-26A3-43D8-A7D2-6BC4481BAE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F0F913-DB91-46D4-8B53-F5576C715A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D6E3B4-DC3E-43A5-AF40-52B688C4E3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4E0EB2-70E4-47D5-BF56-81706452C5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01B219-20A1-47D3-A8DF-4618C143FA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235401-2D29-4CE2-8D1B-CFBF11F371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DEED59-0340-449B-A5AE-1716B90041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B44F0-62D3-4F13-B9B9-9AC43DC01C2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472F8-F637-4AF9-89DD-E2519C63EC3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C3F80F8-C380-4E8B-B208-C18A7EE547A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CE1B15C-1D8A-4127-A4B3-1B4B386F983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2D5AE1-5440-4115-813E-15E68A6D77C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DEB6DB-A39A-47EC-928E-7EC1EAE3F7C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36A467-AADC-46EE-83DA-D59B44E73CC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2C3370-062A-4BBA-BBF2-9702D5832E7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C9FF16-500B-4A66-99E6-ADD36A8A9C2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22A030-ED4A-4447-859A-8E34729B56EE}"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1A684B-59C5-4259-96AC-DFAC364FA8A1}"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A7B04C-B7FB-4328-AA33-9DA7CC5E1A6A}"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47B0BF-13B2-435F-BE97-4113943E62CD}"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97248D-E220-47B7-B556-52089C4F54B2}"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E28A86-7634-492A-BCA5-3B7E42723F55}"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9A9346-3CC0-43E8-8B1C-186486B193C5}"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1EEF20-E164-495F-A842-5F5DF0823DB8}"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41F95F-AA11-483C-9029-7B093BB5502A}"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82C85F-D67B-4AE4-89FE-C6915DD56716}"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6C1804-D859-4E1E-BE1D-6070B4ECEC7F}"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1ECBD8-E547-480F-8EF3-D0C86B5A1C0E}"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E47FB2-BD5C-47D2-83A5-8A58D6479140}"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E05621-348D-4BA7-A0C3-12CC6652B22C}"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38E407-0D8B-498F-89A7-30B3B9AEDBF1}"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D0012C-C1BB-4AD6-BFEF-E2869E2DB1C2}"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B0EEC0-F17C-4E39-974D-056823C1ABDD}"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92D146-50BA-41F4-878E-12BC816C33B7}"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ADBE2E-44E9-4847-81EF-1B37B3D1D840}"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FEE26C-018A-4C1F-BD3D-8FED0C87EFE3}"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A2AEFBA-D132-42AC-A8D1-129A5B62965E}"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E6190D-5C5E-4111-B62B-58D00957ABCD}"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3A9B18-92CB-488E-A0A5-84F3A63D16CA}"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3131C7-AB30-4FC9-ADBA-A53DBB03C054}"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4E1053-AE9A-472F-8067-35CE9AB4838B}"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802792-172C-44B5-8182-23EACF92CC22}"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74A764-B84F-47B9-ADC9-69B7961D158F}"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E53DFC-42E0-4709-9BC1-3A0546135BB1}"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3AB05F-4ACE-4A50-84CE-7F1625A6865E}"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49A225-5924-4E8A-94F2-4F9327300BB0}"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07C82B-5B6D-4A50-92C2-33D6D6A8D98A}"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60F45A-F5FB-4594-B5EB-90729FE5321A}"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447CBD-540B-4E3C-B26F-9522DE7675F7}"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01F448-8C0D-4A35-A36D-2AF3848D8A21}"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59DF87-EF61-4303-8680-7527B632FB1B}"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C5A47A-3ECC-45A8-9433-FEAEB443E3B1}"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54D6C0-5D40-4F49-921F-18520D9DAB7E}"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CF066E-9620-4A05-AC16-E5056356C645}"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9F7911-88CD-4CA7-B5DB-7FFBD301B3B4}"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B44664-39FA-4F38-9FA1-613DBFCEC965}"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4C98A9-03A8-4C61-B748-0310F5F57B28}"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E0B53A4-785C-4A72-9486-F503ABF5433B}"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672968-E4D5-43A6-AD86-B557A8D461C8}"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301C4F-857B-4A71-B7F5-B803F6D3CEA9}"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A7A133B-9B93-4EF4-B9F7-7ADA1D93EB82}"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68BCC2-FFBB-4BE0-AB68-96A9FA73B32D}"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4643F9-8FC4-4798-842A-80EDE0624364}"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728701-FB00-4DE6-A0F5-3A3F387AC623}"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5AD267-FDB0-4E2D-A840-5EEBFAE2D562}"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4BF2FD-164B-4754-AF60-B5A49976E020}"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DAD4C6-AE90-4087-80DB-F23608007099}"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4B32CE-5699-45E0-A277-C2DAE2D38101}"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C7144DC-C4F8-40A9-8BB0-FBDE47AFF011}"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79253A-F28A-4799-9FD5-9056F2E5D041}"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299ADD-CDAF-45FF-BA20-FE6F7C167956}"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CFE0E4-845E-4393-BA5A-0A2DC244B283}"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05D391-7EC5-4138-ADCD-D55B01DDBB41}"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B7BDA0-1AF2-4D1A-96C5-42E834042868}"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0F7D5D0-858C-4E62-9B3C-3E46BCB76E62}"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814573-FD20-4E3B-B694-7C503671E643}"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34E39E-FBD7-4D6D-9884-F7A0F26CFED8}"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15E685-CC35-439B-BEE3-09B2C966DAA8}"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7A9BAA-4B09-4717-AEB2-4982534F5F21}"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E41BDB1-FF09-4515-9EE6-260BA193EB21}"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19902E-4394-4256-A389-43FACF93DB56}"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02B41F-8186-4A3C-9F71-56F584C83BEF}"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256E5B-40DD-4D0B-B00C-F2EE87D49E11}"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A235D1-E74B-431B-BFE3-23A9B65B2722}"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E4E862-D27E-45E3-B581-010EBA2F25E5}"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469037-36AA-42B9-9B4B-DFE5F4AB153E}"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3646786-4753-4FE6-AE87-7ECE2709907F}"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109C41-0A03-4BE0-B180-40139BFCF07C}"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09B5C1-5D03-40C9-90EC-DA778076CF3A}"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4DA9FE-4A7D-40DD-A862-2C1A7700D0C8}"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904C1E2-B9B6-4A72-8B37-BE94213ED878}"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70DA9A-D282-4B5D-BAE3-7C4921EB9993}"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8C40418-84C2-4359-8900-B2CC362D8EDD}"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1CF58A-1A77-4A23-9900-380943EB96C2}"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56942E-CFA9-458D-8C90-FA115E38845B}"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B45B9A-2100-4CFB-AB02-5F27194CF5AD}"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2B23BD-2F28-40FB-B6EB-438A5D886A8F}"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F58EC0-0BB0-44BE-A30E-EA2E47784DE9}"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39F7C5-E89E-4C76-B42F-737CF1F7EE3D}"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1ACF98-345D-4BAC-9549-0B0C68E0B12A}"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228D49-F925-4669-A8BF-3FCD6DFE8325}"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4173CA-310D-4E2E-A9F0-7C04F1EA0349}"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C782F6-96FE-484E-A2F1-4A764F102E76}"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E196A8-0B9F-4D52-953F-E854B97C5A35}"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758FDD-B0AA-43A2-B93A-E564D4BB6352}"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10B820-8230-42F0-8A92-04F51B927C7D}"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86F0C9-FA5C-40E8-9BDB-7FBF8C9001E3}"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F020C1-C30E-47EC-8BBB-2BE2119C6B8D}"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3B302DF-2A98-4E62-8F62-9312DA301B8E}"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9DB47F-D892-40CD-A040-4D86ED629B66}"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40A800-B0A1-4B61-9FE4-592B252B7B9F}"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D11433-30AA-4B8E-B1A5-5B977A43A6C0}"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8557B6-CEE5-4292-9811-5BA74E3E6600}"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15103E-B1F9-4B65-B47C-CEAAC22F0D85}"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B4B317-C349-4850-90D7-91B96B1968D9}"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2FFD46-0645-44A3-B1DC-5DF60493CF56}"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504744-F899-467B-97BF-CEBE3537FC00}"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5AB495-FC56-4B39-ABEC-B1F28544FF1D}"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BABE22-0382-4868-B7DA-3664AB9E073B}"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261F71-A1AF-4C6D-B661-8FEE12D58FA2}"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401708-4B19-4923-AE5C-53421AAA24A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6A22DA-B76F-48E4-BBEA-55195831D2E3}"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F90AD6-1EBD-4C20-BA79-340D705A2978}"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65E0F9-1905-4D51-A343-744CDEDB342E}"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0F375E-7037-4569-9825-40101B544F7F}"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B387AF-FA03-4F61-992D-E2F1B7D78D44}"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89DC33-75CD-43CE-8D01-3DCC89D8FBB6}"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2A1A51-5B0C-4B93-A83F-4900F3326AF9}"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58BC60-6C10-4757-B6D7-A4DD4EB96EF3}"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50299A-C6BC-4DB4-930C-302F728B2170}"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B0573E-6D36-4BCA-81E3-4E01E2DDEF75}"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DD91AB-200E-4F66-A29A-4CA583EF7EF6}"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5C889D-A4F3-4E40-A3FC-4ABAA94E4D46}"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CBEC0C-54D0-48F8-86C3-566B1BE8AB5B}"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7C33EF-1E0B-42DA-8A21-126552ECD2EF}"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1C18B4-4F95-4102-97B6-885D2A93A488}"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2D13D20-CA52-4121-B18E-DBB67DE2D776}"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34ECBA-3C23-4C46-9F0B-E151F62C42E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EDCE4C-E408-4707-8994-9C18AFC0F94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437C9F-5022-475F-B8C5-900A1BE5DD1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6124BB-00B1-4E10-8AEF-AB116B0165E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B7D7D1-8E96-4B2A-A1D6-4101D7E1BFC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663EBD-D1EE-4B9A-9F44-0CE3B8E224D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14A64AA-50A1-4564-A6E3-8F9A2B2ECD8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A28BB3-8605-43BB-A733-00052279122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DCECAB-CA5F-4301-8DDF-7E0DAFE7463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0983BF-D170-4962-8E37-C75C088B196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1EA18F-BE00-4912-B3BD-0D5CCA8E2C0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06DE08-AB05-4739-B463-BED635FB991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46E133-84FA-452E-B2E8-60FF4E68FCC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D63D02-0C0F-49A4-ACF1-C580650E08F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54AD37-F71C-44F0-917C-400701FC7FE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F39051-A5C7-4F63-8131-910692DB7E9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0C531D-0571-4D4D-BFB9-7939407A663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098604-A7AB-450B-BE2E-07A3F62288F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2464F1-1A46-4124-BCB3-44490442B84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E7EA4D-8570-4E60-95E4-939BC18A249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D65D4B-F1E3-4547-B58B-9FE86B1DC83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BE6379-7976-4673-BDF9-8389DCD2B12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5ADC4A-B3E4-4D59-9BC0-7B52F957E89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E0F75D-674B-443C-A26F-1D571B21E81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BF0CBD-E1D0-4E2C-B17E-9A6D7407F75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4E5435-1D1A-47C8-AE17-106CC22878E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B110F5-2460-4FF7-8415-464C6ADEF22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0EDAA2-EE25-4ECA-AE05-8FF6AB9E397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AFFF42-740B-43B7-91C8-B0BF01A12E1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BF9145-6410-41F4-BC71-603BEEFFE5F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02184E-FC31-4514-B4D6-219749E753A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97E6A2-8098-4904-A7FB-91758D41253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D7D876-5A3A-4DDE-869F-050810692F0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46488B-9EBE-4AD5-9A61-36A2DBC2063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11E289-E93D-4F6E-9895-A81CDB962FA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FB77DC-9611-400E-8BF2-F032BF8D7A4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DAB77A-14EE-45F4-8C7D-4E58F761944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FD0C98-2E96-408F-95BC-5EE742B6A00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038013-28CC-4281-BC58-42DFF2850F0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E5C450-B187-4DE4-948A-EB9998882AD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312777-EF39-4BFA-862C-F5768A78DD8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F87647-C894-4FA9-B04E-26575344485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1EE78F-EB20-4A26-BF3E-76AC2067991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130AAA-BA7A-4805-B32D-9F8BF86EDFA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B3E72C-08AF-412B-BF82-C8F3B4FAB33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5F3A49-965D-4569-B9EC-6073798534B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3BB76D-1A19-4233-8E76-962CB51BF53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F0219AA-20BF-41C5-A129-AF5D44C2390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8A0442-E4BC-4F03-8598-AFA28550386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5DE693-A0A0-4457-BD7F-F5DB62AB712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4E3F90-6A85-4DF1-B537-C2C3BD3065C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7BD318-5493-4694-9F65-EF3A0D3EA8C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42407F-7BDE-4732-A509-7EBE11B4B1C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B29F04-2013-4D53-AE77-076CE633637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48092B-2A03-4D4E-92E7-CE733B2B917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FBFDE8-E2F8-4284-9302-5E9C576E6B0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8E48FA5-CB32-4981-AF8D-FE1288DD11A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AE961A-7292-4993-BB31-EEE253135EC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FD0500-0F6F-49A8-9DD6-C914F1F1E00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AF781A-56AE-452D-B6B1-AE6E5F85510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4B1F35-9B50-4371-8EF1-B5D10ABED05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328EC3-3D80-4DF2-9F84-394FB2AE4D3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A32841-1370-4033-9205-74B75308B56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EABC83-85BA-47E7-A76D-66165586359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63C101-807F-4BF0-9499-B3A444EBDD9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40F4BA-3520-4ABE-BD1F-24450883F9B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B0069B-3F0D-4FA5-93F3-8D889647939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3E6466-5610-4835-84FB-88DC8AFB751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293E32-F77B-4CA5-8F33-741BC46EA67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89FDA5-6815-48BF-A6D3-DE1F5A91FFF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3136A1-E08D-4431-AC8D-82D028D544A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BFAFCC5-61C1-49D1-A92B-3F6422A5AE2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D77618-1941-4F4F-90A7-F79D0C535C9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5FD2B8-5159-4CEB-8CD5-CA907B52AB2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E2AC30-DE75-4013-B76F-9E23F4F2492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2011EA-B5A6-47CD-91BE-0D5A9474A46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8F2E7E-F973-4FEA-8420-0C8556DA8E3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CC4265-CAF3-41C9-ABA9-86CAF5117A6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EAA480-1AEA-4541-803C-4A80113ACA4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78A4B9-3EE9-4395-A2EA-8AA9B626862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384444-6993-4B82-BA84-1FC06904B53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537442-94D7-4C82-AE0E-DFB9B46F6E5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FE8303-E02D-4088-8E15-9E2959BD838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61831C-5CEA-48C7-9F07-6E78315AFC7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4C0534-03CF-4C60-9B35-3E1D29AF5DD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